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EFC-93EE-49C0-9A5E-8116DD06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85F-F3CC-4947-B2EA-8C6029CC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EAC-4A24-40CF-BFA6-E516E786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E204-D558-4475-A0EA-9A636F82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04D-503C-4E92-BDB3-6720AD8D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E37-B9D6-42BF-90FF-7FEFE70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CEF-C3C7-4B60-B4DA-916EBC71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FE6-C7DE-4B3F-939A-B0BE131D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188-A78C-4803-9FA9-5101DF43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E85-66DB-4711-A065-1661A10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6BB-46D1-48E5-B8C1-6DA9A68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060-DC3D-4875-B9C6-E88C2D5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BE4-F5EB-4F86-83DF-DF3EFD984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6858000" cy="91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92240" y="-374760"/>
            <a:ext cx="72262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92240" y="-374760"/>
            <a:ext cx="72262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-12567" t="-12577" r="-17301" b="-17304"/>
          <a:stretch/>
        </p:blipFill>
        <p:spPr>
          <a:xfrm>
            <a:off x="1184400" y="1523880"/>
            <a:ext cx="46576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2640" y="830160"/>
            <a:ext cx="5830920" cy="74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81040" y="1827360"/>
            <a:ext cx="38959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792000"/>
            <a:ext cx="5487840" cy="75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2240" y="2409840"/>
            <a:ext cx="5211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50880" y="2232000"/>
            <a:ext cx="37562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81000" y="2286000"/>
            <a:ext cx="702144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86040" y="73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94040" y="2670120"/>
            <a:ext cx="286848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291960" y="-343080"/>
            <a:ext cx="7427880" cy="98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6200" y="3365640"/>
            <a:ext cx="376560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2770200"/>
            <a:ext cx="28684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62080" y="2689200"/>
            <a:ext cx="27338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4040" y="2746440"/>
            <a:ext cx="2868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94040" y="2625840"/>
            <a:ext cx="28684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91960" y="-343080"/>
            <a:ext cx="7427880" cy="981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77840" y="-260280"/>
            <a:ext cx="7199280" cy="96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74760" y="-374760"/>
            <a:ext cx="7591680" cy="9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74680" y="-355680"/>
            <a:ext cx="7391520" cy="984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6:41:32Z</dcterms:created>
  <dc:creator>Faith Rogow</dc:creator>
  <dc:description/>
  <dc:language>en-US</dc:language>
  <cp:lastModifiedBy>IIT</cp:lastModifiedBy>
  <dcterms:modified xsi:type="dcterms:W3CDTF">2010-06-25T01:44:55Z</dcterms:modified>
  <cp:revision>4</cp:revision>
  <dc:subject/>
  <dc:title>No Slide Title</dc:title>
</cp:coreProperties>
</file>